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D73-6C3D-4F20-BCB2-8A780A02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215-3859-45A1-B664-D4EE1451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B43-DBC3-4D5F-9FFA-A1D45B72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C27-44B4-4D86-A8F4-2D13FB63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D00E-4E12-41C9-BA49-2B1B5B2F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7A50-B02C-4FA5-989B-605D0443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A695-D70E-436F-819E-B9FD9568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930D-7151-4C06-92A2-0E2AEAA7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6704-9A16-4DC3-A7D7-348B7589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5327-9553-4637-A1D7-4887DF65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C1F9-211F-4145-90DB-D10ADB1D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E74-2723-4F77-9118-544790B5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76A3-EA3E-4472-A815-D3BA433B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545F-D9CE-4236-9874-C5084844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A778-7DA0-433A-ADC1-B0D8DC35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A82E-D8B4-45AB-9224-67053AB4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34A6-A198-47E4-9BEB-A2E28422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DA1-B8D6-4FA2-95BA-9D52A5A5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C24-A48F-448D-9477-1587E01E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BC0-D65C-423B-B890-72CDDB76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9D3-2A4B-4216-9258-30F2134A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BD4-556B-47EF-99EF-91E7F8F4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9ED-BB95-4ECD-B8D6-BE6BF574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B57-4EFA-462F-8D30-3DB49B5C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5A9E-A85E-473A-9A60-622C7D9661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1CDC-512E-4EE7-844D-B3A1B64816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АЛИЗ РЫНКА ИПОТЕЧНОГО КРЕДИТОВАНИЯ В УСЛОВИЯХ ФИНАНСОВОГО КРИЗИ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6. Финансирование ФЦП "Государственные жилищные сертификаты" в 1998-2003 гг. и планируемое финансирование подпрограммы "Государственные жилищные сертификаты" на 2004-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77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4 – Программы ипотечного кредитования Сберба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9040" y="1989000"/>
          <a:ext cx="8256600" cy="4676760"/>
        </p:xfrm>
        <a:graphic>
          <a:graphicData uri="http://schemas.openxmlformats.org/drawingml/2006/table">
            <a:tbl>
              <a:tblPr/>
              <a:tblGrid>
                <a:gridCol w="1755720"/>
                <a:gridCol w="1208160"/>
                <a:gridCol w="1814400"/>
                <a:gridCol w="1360440"/>
                <a:gridCol w="211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ая сумма плат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 кре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1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2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едит на недвиж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лод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574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 5 – Ипотечные программы в зависимости от максимального срока предоставления кредит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844640"/>
          <a:ext cx="7824960" cy="4843440"/>
        </p:xfrm>
        <a:graphic>
          <a:graphicData uri="http://schemas.openxmlformats.org/drawingml/2006/table">
            <a:tbl>
              <a:tblPr/>
              <a:tblGrid>
                <a:gridCol w="3153240"/>
                <a:gridCol w="1555200"/>
                <a:gridCol w="311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срок кредит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е размеры процентных ставок, (% годовы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/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/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до 2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/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/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56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аблица 6 - Условия предоставления креди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4154400"/>
        </p:xfrm>
        <a:graphic>
          <a:graphicData uri="http://schemas.openxmlformats.org/drawingml/2006/table">
            <a:tbl>
              <a:tblPr/>
              <a:tblGrid>
                <a:gridCol w="4253040"/>
                <a:gridCol w="351936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ые ста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ован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рассмотрение зая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выдачу 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ка без первоначального взн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рочное погашение без коми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7 – Ипотечные программы Россельхозбан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2017800"/>
          <a:ext cx="8559720" cy="4755960"/>
        </p:xfrm>
        <a:graphic>
          <a:graphicData uri="http://schemas.openxmlformats.org/drawingml/2006/table">
            <a:tbl>
              <a:tblPr/>
              <a:tblGrid>
                <a:gridCol w="2149560"/>
                <a:gridCol w="1297080"/>
                <a:gridCol w="1593720"/>
                <a:gridCol w="1111320"/>
                <a:gridCol w="1052280"/>
                <a:gridCol w="1355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/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срок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взно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ставка % год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ый кредит по программе «Сельское подворь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по программе АИ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вание жителей сельской местности на стро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 жилищных усло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7 - Первоначальные услов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276640"/>
          <a:ext cx="8136000" cy="4033800"/>
        </p:xfrm>
        <a:graphic>
          <a:graphicData uri="http://schemas.openxmlformats.org/drawingml/2006/table">
            <a:tbl>
              <a:tblPr/>
              <a:tblGrid>
                <a:gridCol w="3154320"/>
                <a:gridCol w="2098800"/>
                <a:gridCol w="1490400"/>
                <a:gridCol w="1392480"/>
              </a:tblGrid>
              <a:tr h="86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8 – Дифференцирован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2205000"/>
          <a:ext cx="7991280" cy="3844800"/>
        </p:xfrm>
        <a:graphic>
          <a:graphicData uri="http://schemas.openxmlformats.org/drawingml/2006/table">
            <a:tbl>
              <a:tblPr/>
              <a:tblGrid>
                <a:gridCol w="2320920"/>
                <a:gridCol w="1947960"/>
                <a:gridCol w="1950840"/>
                <a:gridCol w="1771560"/>
              </a:tblGrid>
              <a:tr h="11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0000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9 - Аннуитет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415360" cy="4679640"/>
        </p:xfrm>
        <a:graphic>
          <a:graphicData uri="http://schemas.openxmlformats.org/drawingml/2006/table">
            <a:tbl>
              <a:tblPr/>
              <a:tblGrid>
                <a:gridCol w="2038320"/>
                <a:gridCol w="1465560"/>
                <a:gridCol w="1709640"/>
                <a:gridCol w="1482840"/>
                <a:gridCol w="1719000"/>
              </a:tblGrid>
              <a:tr h="144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37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13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7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блица 11- Сравнение дифференцированного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нуитетного платеж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017800"/>
          <a:ext cx="8486640" cy="4332240"/>
        </p:xfrm>
        <a:graphic>
          <a:graphicData uri="http://schemas.openxmlformats.org/drawingml/2006/table">
            <a:tbl>
              <a:tblPr/>
              <a:tblGrid>
                <a:gridCol w="2303280"/>
                <a:gridCol w="1584360"/>
                <a:gridCol w="1511280"/>
                <a:gridCol w="1584360"/>
                <a:gridCol w="1503360"/>
              </a:tblGrid>
              <a:tr h="767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0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пасибо за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оказать этапы развития рынка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 Рассмотреть ипотеку как форму залога с точки зрения действующего российского законодательства, дать характеристику ипотеки и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ассмотреть ипотечные программы, которые представлены в современное время ведущими банками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Выявить проблемы и определить перспективы развития института ипоте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053000"/>
            <a:ext cx="77770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поте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от греч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ypothek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– залог, заклад)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— представляет собой залог недвижимости для обеспечения денежного требования кредитора-залогодержателя к должнику (залогодателю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1 – Сравнение объемов ипотечных жилищных кредитов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235400"/>
        </p:xfrm>
        <a:graphic>
          <a:graphicData uri="http://schemas.openxmlformats.org/drawingml/2006/table">
            <a:tbl>
              <a:tblPr/>
              <a:tblGrid>
                <a:gridCol w="2589480"/>
                <a:gridCol w="2590560"/>
                <a:gridCol w="259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роста ипотечного кредит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./200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 Р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2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долженност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ипотеке в первом полугодии 2008-2009гг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2600" y="2017800"/>
          <a:ext cx="7772040" cy="4113720"/>
        </p:xfrm>
        <a:graphic>
          <a:graphicData uri="http://schemas.openxmlformats.org/drawingml/2006/table">
            <a:tbl>
              <a:tblPr/>
              <a:tblGrid>
                <a:gridCol w="2590200"/>
                <a:gridCol w="2591280"/>
                <a:gridCol w="259056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рубли Р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валюта 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исунок 2. Приоритетный национальный проект «Доступное и комфортное жилье – гражданам России»: индикаторы решения основных задач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61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69966" r="0" b="0"/>
          <a:stretch/>
        </p:blipFill>
        <p:spPr>
          <a:xfrm>
            <a:off x="2195640" y="5157720"/>
            <a:ext cx="5143320" cy="12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исунок 3. Жилищные потребности населения (% от всех домохозяйст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3 - Примеры расчетов ипотечных платежей при использовании материнского капитала[34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017800"/>
          <a:ext cx="8270640" cy="4070160"/>
        </p:xfrm>
        <a:graphic>
          <a:graphicData uri="http://schemas.openxmlformats.org/drawingml/2006/table">
            <a:tbl>
              <a:tblPr/>
              <a:tblGrid>
                <a:gridCol w="406080"/>
                <a:gridCol w="1697040"/>
                <a:gridCol w="1160640"/>
                <a:gridCol w="787320"/>
                <a:gridCol w="1870200"/>
                <a:gridCol w="1173240"/>
                <a:gridCol w="1176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ленов семьи, в том числе несовершеннолет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кредит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до поступления суммы средств материнского капитала, 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из ПФ РФ сумма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после зачисления суммы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4 27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5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23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36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0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 8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14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8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в том числе дети 16, 8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 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6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 и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094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61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5. Количество государственных жилищных сертификатов, выпущенных в рамках Программы в 1998-2003 гг. и планируемый выпуск сертификатов в рамках подпрограммы "Государственные жилищные сертификаты" на 2004-20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930320"/>
            <a:ext cx="734544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10:50Z</dcterms:created>
  <dc:creator>Customer</dc:creator>
  <dc:description/>
  <dc:language>en-US</dc:language>
  <cp:lastModifiedBy>Customer</cp:lastModifiedBy>
  <dcterms:modified xsi:type="dcterms:W3CDTF">2010-02-14T14:07:21Z</dcterms:modified>
  <cp:revision>18</cp:revision>
  <dc:subject/>
  <dc:title>Таблица 1 – Сравнение объемов ипотечных жилищных кредитов на 2008-2009 гг. </dc:title>
</cp:coreProperties>
</file>