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7ABF-8925-45A8-8BDA-4C9C3B040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EFE5-4A12-44E7-BBAB-15FCC75A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2D43-107A-4F24-9234-4C4FFCCFA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3044-0233-48E6-99AA-6D98D6DCC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F1FA-86ED-4419-A8CA-F9EA09CFD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BB99-CB08-433C-9BAF-BCF7E94B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52AE-58C8-4DBB-8161-0230369D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30AA-E166-4EE7-AEE9-6A935ACB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DF12-6F0B-4ED5-B478-5CF6CC8C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CF8B-2C35-4B62-AC5A-7910B588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0FD2-E377-4FB6-B575-98D1B30F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2386-E0A9-4492-9293-0EDCE530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CF87-9F2D-4199-9618-7FE30D1B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FF5A-80A2-4A43-B631-F51866AA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E6AC-F233-404D-A187-7B5C8CF4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DE043-B295-4AC3-988B-31521F075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264B-2184-4D93-B488-49C412B17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13E4-88DF-4E34-A1B7-98DD0CD4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ADC8-5FE7-4E30-8705-66C819A7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9F7A-23A6-45C2-BBA9-2AD97ECE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C5B3-C61A-4E77-991C-8D6A967A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3391-2C89-4071-BF61-AE109CC2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8FB0-7B9F-4D98-B7CF-03CD8683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1C51-09FC-4FDE-89E4-47CAC1E0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D53F-1E8D-4D8F-8F82-4AFCF5CF66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3EF0-2D89-4A37-B75D-2AA56542DE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8532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АНАЛИЗ РЫНКА ИПОТЕЧНОГО КРЕДИТОВАНИЯ В УСЛОВИЯХ ФИНАНСОВОГО КРИЗИС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Рисунок 6. Финансирование ФЦП "Государственные жилищные сертификаты" в 1998-2003 гг. и планируемое финансирование подпрограммы "Государственные жилищные сертификаты" на 2004-10 гг.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777744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4 – Программы ипотечного кредитования Сбербанк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19040" y="1989000"/>
          <a:ext cx="8256600" cy="4676760"/>
        </p:xfrm>
        <a:graphic>
          <a:graphicData uri="http://schemas.openxmlformats.org/drawingml/2006/table">
            <a:tbl>
              <a:tblPr/>
              <a:tblGrid>
                <a:gridCol w="1755720"/>
                <a:gridCol w="1208160"/>
                <a:gridCol w="1814400"/>
                <a:gridCol w="1360440"/>
                <a:gridCol w="2117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потечная 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альная сумма платеж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креди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потечный кредит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5 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5-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-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потечный+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25-11,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75-12,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едит на недвижимость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5-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Молодая Семь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25-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75-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0" y="574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 5 – Ипотечные программы в зависимости от максимального срока предоставления кредита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5640" y="1844640"/>
          <a:ext cx="7824960" cy="4843440"/>
        </p:xfrm>
        <a:graphic>
          <a:graphicData uri="http://schemas.openxmlformats.org/drawingml/2006/table">
            <a:tbl>
              <a:tblPr/>
              <a:tblGrid>
                <a:gridCol w="3153240"/>
                <a:gridCol w="1555200"/>
                <a:gridCol w="31165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ый срок кредит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альные размеры процентных ставок, (% годовых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5 ле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возврата кредита – до достижения пенсионного возраста (мужчины 60 лет, женщины 55 ле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 Р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0/1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0/1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5 до 25 ле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возврата кредита – до достижения пенсионного возраста (мужчины 60 лет, женщины 55 лет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 Р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/1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5/1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0" y="56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Таблица 6 - Условия предоставления кредит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182600" y="2017800"/>
          <a:ext cx="7772400" cy="4154400"/>
        </p:xfrm>
        <a:graphic>
          <a:graphicData uri="http://schemas.openxmlformats.org/drawingml/2006/table">
            <a:tbl>
              <a:tblPr/>
              <a:tblGrid>
                <a:gridCol w="4253040"/>
                <a:gridCol w="3519360"/>
              </a:tblGrid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ные ставк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1,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кредитовани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5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иссия за рассмотрение заявк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200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иссия за выдачу кредит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000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потека без первоначального взно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рочное погашение без коми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3 меся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Таблица 7 – Ипотечные программы Россельхозбанк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95280" y="2017800"/>
          <a:ext cx="8559720" cy="4755960"/>
        </p:xfrm>
        <a:graphic>
          <a:graphicData uri="http://schemas.openxmlformats.org/drawingml/2006/table">
            <a:tbl>
              <a:tblPr/>
              <a:tblGrid>
                <a:gridCol w="2149560"/>
                <a:gridCol w="1297080"/>
                <a:gridCol w="1593720"/>
                <a:gridCol w="1111320"/>
                <a:gridCol w="1052280"/>
                <a:gridCol w="13557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/ 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срок,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 взнос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 ставка % годов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потечный кредит по программе «Сельское подворь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ичное жил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ти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ой 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 по программе АИЖ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ичное жил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ти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ой 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ование жителей сельской местности на строитель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учшение жилищных услов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549360"/>
            <a:ext cx="7792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Таблица 7 - Первоначальные условия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8360" y="2276640"/>
          <a:ext cx="8136000" cy="4033800"/>
        </p:xfrm>
        <a:graphic>
          <a:graphicData uri="http://schemas.openxmlformats.org/drawingml/2006/table">
            <a:tbl>
              <a:tblPr/>
              <a:tblGrid>
                <a:gridCol w="3154320"/>
                <a:gridCol w="2098800"/>
                <a:gridCol w="1490400"/>
                <a:gridCol w="1392480"/>
              </a:tblGrid>
              <a:tr h="865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в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Таблица 8 – Дифференцированный платеж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8360" y="2205000"/>
          <a:ext cx="7991280" cy="3844800"/>
        </p:xfrm>
        <a:graphic>
          <a:graphicData uri="http://schemas.openxmlformats.org/drawingml/2006/table">
            <a:tbl>
              <a:tblPr/>
              <a:tblGrid>
                <a:gridCol w="2320920"/>
                <a:gridCol w="1947960"/>
                <a:gridCol w="1950840"/>
                <a:gridCol w="1771560"/>
              </a:tblGrid>
              <a:tr h="1177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20000,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32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88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88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55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555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69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69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2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Таблица 9 - Аннуитетный платеж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39640" y="1773360"/>
          <a:ext cx="8415360" cy="4679640"/>
        </p:xfrm>
        <a:graphic>
          <a:graphicData uri="http://schemas.openxmlformats.org/drawingml/2006/table">
            <a:tbl>
              <a:tblPr/>
              <a:tblGrid>
                <a:gridCol w="2038320"/>
                <a:gridCol w="1465560"/>
                <a:gridCol w="1709640"/>
                <a:gridCol w="1482840"/>
                <a:gridCol w="1719000"/>
              </a:tblGrid>
              <a:tr h="144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ну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192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92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37,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113,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81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81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45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25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2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27,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13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13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957,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2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25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Таблица 11- Сравнение дифференцированного и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аннуитетного платежей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2017800"/>
          <a:ext cx="8486640" cy="4332240"/>
        </p:xfrm>
        <a:graphic>
          <a:graphicData uri="http://schemas.openxmlformats.org/drawingml/2006/table">
            <a:tbl>
              <a:tblPr/>
              <a:tblGrid>
                <a:gridCol w="2303280"/>
                <a:gridCol w="1584360"/>
                <a:gridCol w="1511280"/>
                <a:gridCol w="1584360"/>
                <a:gridCol w="1503360"/>
              </a:tblGrid>
              <a:tr h="7675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ференцированный плат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нуитет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т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88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25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69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2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20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81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1773000"/>
            <a:ext cx="77724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Спасибо за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внимание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7929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Задачи: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773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Показать этапы развития рынка ипотечного кредитов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 Рассмотреть ипотеку как форму залога с точки зрения действующего российского законодательства, дать характеристику ипотеки и ипотечного кредитов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Рассмотреть ипотечные программы, которые представлены в современное время ведущими банками Росс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Выявить проблемы и определить перспективы развития института ипоте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55640" y="1053000"/>
            <a:ext cx="777708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Ипотека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(от греч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ypotheka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– залог, заклад) 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— представляет собой залог недвижимости для обеспечения денежного требования кредитора-залогодержателя к должнику (залогодателю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14200"/>
            <a:ext cx="79722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Таблица 1 – Сравнение объемов ипотечных жилищных кредитов 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82600" y="2017800"/>
          <a:ext cx="7772400" cy="4235400"/>
        </p:xfrm>
        <a:graphic>
          <a:graphicData uri="http://schemas.openxmlformats.org/drawingml/2006/table">
            <a:tbl>
              <a:tblPr/>
              <a:tblGrid>
                <a:gridCol w="2589480"/>
                <a:gridCol w="2590560"/>
                <a:gridCol w="25923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екс роста ипотечного кредито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г.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г./2008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 Р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2 –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Задолженност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по ипотеке в первом полугодии 2008-2009гг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82600" y="2017800"/>
          <a:ext cx="7772040" cy="4113720"/>
        </p:xfrm>
        <a:graphic>
          <a:graphicData uri="http://schemas.openxmlformats.org/drawingml/2006/table">
            <a:tbl>
              <a:tblPr/>
              <a:tblGrid>
                <a:gridCol w="2590200"/>
                <a:gridCol w="2591280"/>
                <a:gridCol w="2590560"/>
              </a:tblGrid>
              <a:tr h="11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ежная един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, рубли Р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4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, валюта С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6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Рисунок 2. Приоритетный национальный проект «Доступное и комфортное жилье – гражданам России»: индикаторы решения основных задач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08000" y="2060640"/>
            <a:ext cx="5616720" cy="2952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rcRect l="0" t="69966" r="0" b="0"/>
          <a:stretch/>
        </p:blipFill>
        <p:spPr>
          <a:xfrm>
            <a:off x="2195640" y="5157720"/>
            <a:ext cx="5143320" cy="127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Рисунок 3. Жилищные потребности населения (% от всех домохозяйств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7201080" cy="42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3 - Примеры расчетов ипотечных платежей при использовании материнского капитала[34]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4360" y="2017800"/>
          <a:ext cx="8270640" cy="4070160"/>
        </p:xfrm>
        <a:graphic>
          <a:graphicData uri="http://schemas.openxmlformats.org/drawingml/2006/table">
            <a:tbl>
              <a:tblPr/>
              <a:tblGrid>
                <a:gridCol w="406080"/>
                <a:gridCol w="1697040"/>
                <a:gridCol w="1160640"/>
                <a:gridCol w="787320"/>
                <a:gridCol w="1870200"/>
                <a:gridCol w="1173240"/>
                <a:gridCol w="1176120"/>
              </a:tblGrid>
              <a:tr h="116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членов семьи, в том числе несовершеннолет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кредита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.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кредита,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месячный платеж до поступления суммы средств материнского капитала, руб.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ная из ПФ РФ сумма средств материнского капитала,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месячный платеж после зачисления суммы средств материнского капитала,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4 и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4 273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853,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923,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4 и 2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365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663,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3,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10 и 2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1 809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914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781,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 в том числе дети 16, 8 и 2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0 6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966,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779,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1 и 4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000 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094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615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Рисунок 5. Количество государственных жилищных сертификатов, выпущенных в рамках Программы в 1998-2003 гг. и планируемый выпуск сертификатов в рамках подпрограммы "Государственные жилищные сертификаты" на 2004-2010 гг.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42920" y="1930320"/>
            <a:ext cx="7345440" cy="437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18:10:50Z</dcterms:created>
  <dc:creator>Customer</dc:creator>
  <dc:description/>
  <dc:language>en-US</dc:language>
  <cp:lastModifiedBy>Customer</cp:lastModifiedBy>
  <dcterms:modified xsi:type="dcterms:W3CDTF">2010-02-14T14:07:21Z</dcterms:modified>
  <cp:revision>18</cp:revision>
  <dc:subject/>
  <dc:title>Таблица 1 – Сравнение объемов ипотечных жилищных кредитов на 2008-2009 гг. </dc:title>
</cp:coreProperties>
</file>