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000E-C2D2-4697-BE39-B3096C43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441-1E14-4E7C-A094-7C294E96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8DF-1193-4AB0-A838-9858E3E2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79A-18C6-4E68-BBE6-CCDD9D6A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3CBA-BF7C-4D61-BAA4-5ABE1953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1BF6-1B14-4798-BD61-C7CAED37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DE88-CA45-40FF-9681-5C95FD9A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649A-CD2A-4874-9608-E557E8D7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806F-DC6C-41AA-B4D6-9815D78F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F5FE-78E6-4082-ACDB-D218B8A2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0671-2535-47F6-A293-78F23FCE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3E1-33C0-442B-B1EB-A5896E88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70EE-7D13-4E21-9FE9-F27585CE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08B3-5F1C-422E-9C3C-F5B0FF63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613F-3755-4930-B5D0-2BF402AA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5BE4-9D05-44CD-9E8E-9CC80ACF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5794-1EEF-4FFC-BE11-81F6DB87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81A-B36C-4181-B681-61E12C39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3763-69A5-4F4E-80AE-F154CE88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56F-B6C2-45D6-8AD9-1E77D8B3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F4E-DFEE-4C70-9DFA-7B547C19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4A0-79C3-4AFA-B625-70A244E7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7B7-BD45-4465-8B71-6D1BF79F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DE10-7B3C-4D57-AF06-C9F9BF49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985C-09F1-4145-A74D-77C30F973A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21E1-D2ED-4181-95B5-588E20A44B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53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НАЛИЗ РЫНКА ИПОТЕЧНОГО КРЕДИТОВАНИЯ В УСЛОВИЯХ ФИНАНСОВОГО КРИЗИ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6. Финансирование ФЦП "Государственные жилищные сертификаты" в 1998-2003 гг. и планируемое финансирование подпрограммы "Государственные жилищные сертификаты" на 2004-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7774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4 – Программы ипотечного кредитования Сбербан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19040" y="1989000"/>
          <a:ext cx="8256600" cy="4676760"/>
        </p:xfrm>
        <a:graphic>
          <a:graphicData uri="http://schemas.openxmlformats.org/drawingml/2006/table">
            <a:tbl>
              <a:tblPr/>
              <a:tblGrid>
                <a:gridCol w="1755720"/>
                <a:gridCol w="1208160"/>
                <a:gridCol w="1814400"/>
                <a:gridCol w="1360440"/>
                <a:gridCol w="211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ая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ая сумма плате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 креди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+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1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2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едит на недвижим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лод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574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 5 – Ипотечные программы в зависимости от максимального срока предоставления кредит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844640"/>
          <a:ext cx="7824960" cy="4843440"/>
        </p:xfrm>
        <a:graphic>
          <a:graphicData uri="http://schemas.openxmlformats.org/drawingml/2006/table">
            <a:tbl>
              <a:tblPr/>
              <a:tblGrid>
                <a:gridCol w="3153240"/>
                <a:gridCol w="1555200"/>
                <a:gridCol w="3116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срок кредит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е размеры процентных ставок, (% годовы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/1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/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 до 2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/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/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0" y="56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Таблица 6 - Условия предоставления кредит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82600" y="2017800"/>
          <a:ext cx="7772400" cy="4154400"/>
        </p:xfrm>
        <a:graphic>
          <a:graphicData uri="http://schemas.openxmlformats.org/drawingml/2006/table">
            <a:tbl>
              <a:tblPr/>
              <a:tblGrid>
                <a:gridCol w="4253040"/>
                <a:gridCol w="351936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ые ста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овани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рассмотрение зая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2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выдачу 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ка без первоначального взн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рочное погашение без коми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3 меся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7 – Ипотечные программы Россельхозбан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2017800"/>
          <a:ext cx="8559720" cy="4755960"/>
        </p:xfrm>
        <a:graphic>
          <a:graphicData uri="http://schemas.openxmlformats.org/drawingml/2006/table">
            <a:tbl>
              <a:tblPr/>
              <a:tblGrid>
                <a:gridCol w="2149560"/>
                <a:gridCol w="1297080"/>
                <a:gridCol w="1593720"/>
                <a:gridCol w="1111320"/>
                <a:gridCol w="1052280"/>
                <a:gridCol w="1355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/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срок,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взнос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ставка % год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ый кредит по программе «Сельское подворь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 по программе АИЖ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ование жителей сельской местности на стро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ение жилищных усло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54936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7 - Первоначальные услов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2276640"/>
          <a:ext cx="8136000" cy="4033800"/>
        </p:xfrm>
        <a:graphic>
          <a:graphicData uri="http://schemas.openxmlformats.org/drawingml/2006/table">
            <a:tbl>
              <a:tblPr/>
              <a:tblGrid>
                <a:gridCol w="3154320"/>
                <a:gridCol w="2098800"/>
                <a:gridCol w="1490400"/>
                <a:gridCol w="1392480"/>
              </a:tblGrid>
              <a:tr h="86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8 – Дифференцирован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2205000"/>
          <a:ext cx="7991280" cy="3844800"/>
        </p:xfrm>
        <a:graphic>
          <a:graphicData uri="http://schemas.openxmlformats.org/drawingml/2006/table">
            <a:tbl>
              <a:tblPr/>
              <a:tblGrid>
                <a:gridCol w="2320920"/>
                <a:gridCol w="1947960"/>
                <a:gridCol w="1950840"/>
                <a:gridCol w="1771560"/>
              </a:tblGrid>
              <a:tr h="11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0000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2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9 - Аннуитет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773360"/>
          <a:ext cx="8415360" cy="4679640"/>
        </p:xfrm>
        <a:graphic>
          <a:graphicData uri="http://schemas.openxmlformats.org/drawingml/2006/table">
            <a:tbl>
              <a:tblPr/>
              <a:tblGrid>
                <a:gridCol w="2038320"/>
                <a:gridCol w="1465560"/>
                <a:gridCol w="1709640"/>
                <a:gridCol w="1482840"/>
                <a:gridCol w="1719000"/>
              </a:tblGrid>
              <a:tr h="144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37,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13,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5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7,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57,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Таблица 11- Сравнение дифференцированного и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аннуитетного платеж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2017800"/>
          <a:ext cx="8486640" cy="4332240"/>
        </p:xfrm>
        <a:graphic>
          <a:graphicData uri="http://schemas.openxmlformats.org/drawingml/2006/table">
            <a:tbl>
              <a:tblPr/>
              <a:tblGrid>
                <a:gridCol w="2303280"/>
                <a:gridCol w="1584360"/>
                <a:gridCol w="1511280"/>
                <a:gridCol w="1584360"/>
                <a:gridCol w="1503360"/>
              </a:tblGrid>
              <a:tr h="767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0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773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Спасибо за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внимание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оказать этапы развития рынка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 Рассмотреть ипотеку как форму залога с точки зрения действующего российского законодательства, дать характеристику ипотеки и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ассмотреть ипотечные программы, которые представлены в современное время ведущими банками Ро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Выявить проблемы и определить перспективы развития института ипоте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053000"/>
            <a:ext cx="77770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поте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от греч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ypotheka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– залог, заклад)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— представляет собой залог недвижимости для обеспечения денежного требования кредитора-залогодержателя к должнику (залогодателю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1 – Сравнение объемов ипотечных жилищных кредитов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82600" y="2017800"/>
          <a:ext cx="7772400" cy="4235400"/>
        </p:xfrm>
        <a:graphic>
          <a:graphicData uri="http://schemas.openxmlformats.org/drawingml/2006/table">
            <a:tbl>
              <a:tblPr/>
              <a:tblGrid>
                <a:gridCol w="2589480"/>
                <a:gridCol w="2590560"/>
                <a:gridCol w="2592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роста ипотечного кредит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.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./2008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 Р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2 –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Задолженност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 ипотеке в первом полугодии 2008-2009гг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82600" y="2017800"/>
          <a:ext cx="7772040" cy="4113720"/>
        </p:xfrm>
        <a:graphic>
          <a:graphicData uri="http://schemas.openxmlformats.org/drawingml/2006/table">
            <a:tbl>
              <a:tblPr/>
              <a:tblGrid>
                <a:gridCol w="2590200"/>
                <a:gridCol w="2591280"/>
                <a:gridCol w="2590560"/>
              </a:tblGrid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ая 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рубли Р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валюта 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исунок 2. Приоритетный национальный проект «Доступное и комфортное жилье – гражданам России»: индикаторы решения основных задач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61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69966" r="0" b="0"/>
          <a:stretch/>
        </p:blipFill>
        <p:spPr>
          <a:xfrm>
            <a:off x="2195640" y="5157720"/>
            <a:ext cx="5143320" cy="12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Рисунок 3. Жилищные потребности населения (% от всех домохозяйств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3 - Примеры расчетов ипотечных платежей при использовании материнского капитала[34]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2017800"/>
          <a:ext cx="8270640" cy="4070160"/>
        </p:xfrm>
        <a:graphic>
          <a:graphicData uri="http://schemas.openxmlformats.org/drawingml/2006/table">
            <a:tbl>
              <a:tblPr/>
              <a:tblGrid>
                <a:gridCol w="406080"/>
                <a:gridCol w="1697040"/>
                <a:gridCol w="1160640"/>
                <a:gridCol w="787320"/>
                <a:gridCol w="1870200"/>
                <a:gridCol w="1173240"/>
                <a:gridCol w="117612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ленов семьи, в том числе несовершеннолет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кредита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,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до поступления суммы средств материнского капитала, 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ая из ПФ РФ сумма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после зачисления суммы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4 27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85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923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36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63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3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0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1 80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914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781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в том числе дети 16, 8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0 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966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779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 и 4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00 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094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615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5. Количество государственных жилищных сертификатов, выпущенных в рамках Программы в 1998-2003 гг. и планируемый выпуск сертификатов в рамках подпрограммы "Государственные жилищные сертификаты" на 2004-20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930320"/>
            <a:ext cx="7345440" cy="43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10:50Z</dcterms:created>
  <dc:creator>Customer</dc:creator>
  <dc:description/>
  <dc:language>en-US</dc:language>
  <cp:lastModifiedBy>Customer</cp:lastModifiedBy>
  <dcterms:modified xsi:type="dcterms:W3CDTF">2010-02-14T14:07:21Z</dcterms:modified>
  <cp:revision>18</cp:revision>
  <dc:subject/>
  <dc:title>Таблица 1 – Сравнение объемов ипотечных жилищных кредитов на 2008-2009 гг. </dc:title>
</cp:coreProperties>
</file>