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26E-7D8F-4ECF-8F58-C2AD4882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418-D61F-4C37-988E-C26F56FB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99B-F282-4923-8E31-A115B8FA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B3B6-8C37-48F4-8F13-BD84C9B7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8F89-8ED6-427C-A317-5061BE94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1DA4-486E-4034-9088-7FDF6E5B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BA8D-30A6-4077-B01A-FAA5FBFC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71B6-5038-4441-A75A-29A0B661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7CC0-D640-4D7E-AC56-1CDD6DE1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6296-6460-4E91-82E1-C1CA9460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8896-4F2C-4C54-8E8F-BD17C6C4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5E1A-0E28-47D8-95F5-6D4176F1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5230-8BCA-4367-B4AB-1EFF0DDA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AF70-AD3F-494D-BC95-E993FC28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E3B4-0556-48C1-BE7D-20F30290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53AF-312D-4951-B4FD-D0D581CE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3607-6576-4B60-BACC-83B3B7A6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B5A-ED40-4353-90D5-E4960DB2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8FC6-7394-4966-A770-F2538561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C5CB-7C19-4638-87EF-A9AE0D34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4AC-C9C1-48AD-8428-38FEE980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1AF-3812-47F8-942F-06DC36DF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B0D5-1D5D-4177-A107-6D344869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F050-E9AF-4ED3-9EA6-03D0EE04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5D14-6053-4709-A257-181638E70C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5ABD-4AF0-42F0-B7F6-7FB40E7935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853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АНАЛИЗ РЫНКА ИПОТЕЧНОГО КРЕДИТОВАНИЯ В УСЛОВИЯХ ФИНАНСОВОГО КРИЗИ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6. Финансирование ФЦП "Государственные жилищные сертификаты" в 1998-2003 гг. и планируемое финансирование подпрограммы "Государственные жилищные сертификаты" на 2004-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7774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4 – Программы ипотечного кредитования Сбербан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19040" y="1989000"/>
          <a:ext cx="8256600" cy="4676760"/>
        </p:xfrm>
        <a:graphic>
          <a:graphicData uri="http://schemas.openxmlformats.org/drawingml/2006/table">
            <a:tbl>
              <a:tblPr/>
              <a:tblGrid>
                <a:gridCol w="1755720"/>
                <a:gridCol w="1208160"/>
                <a:gridCol w="1814400"/>
                <a:gridCol w="1360440"/>
                <a:gridCol w="211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ая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ая сумма плате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 креди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-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+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1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2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едит на недвижимос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олода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574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 5 – Ипотечные программы в зависимости от максимального срока предоставления кредит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844640"/>
          <a:ext cx="7824960" cy="4843440"/>
        </p:xfrm>
        <a:graphic>
          <a:graphicData uri="http://schemas.openxmlformats.org/drawingml/2006/table">
            <a:tbl>
              <a:tblPr/>
              <a:tblGrid>
                <a:gridCol w="3153240"/>
                <a:gridCol w="1555200"/>
                <a:gridCol w="3116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срок кредит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е размеры процентных ставок, (% годовы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/1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/1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 до 2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/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/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0" y="56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Таблица 6 - Условия предоставления кредит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82600" y="2017800"/>
          <a:ext cx="7772400" cy="4154400"/>
        </p:xfrm>
        <a:graphic>
          <a:graphicData uri="http://schemas.openxmlformats.org/drawingml/2006/table">
            <a:tbl>
              <a:tblPr/>
              <a:tblGrid>
                <a:gridCol w="4253040"/>
                <a:gridCol w="351936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ные ста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1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овани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рассмотрение зая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2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выдачу 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ка без первоначального взн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рочное погашение без коми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3 меся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7 – Ипотечные программы Россельхозбан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2017800"/>
          <a:ext cx="8559720" cy="4755960"/>
        </p:xfrm>
        <a:graphic>
          <a:graphicData uri="http://schemas.openxmlformats.org/drawingml/2006/table">
            <a:tbl>
              <a:tblPr/>
              <a:tblGrid>
                <a:gridCol w="2149560"/>
                <a:gridCol w="1297080"/>
                <a:gridCol w="1593720"/>
                <a:gridCol w="1111320"/>
                <a:gridCol w="1052280"/>
                <a:gridCol w="1355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/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срок,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взнос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ставка % год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ый кредит по программе «Сельское подворь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 по программе АИЖ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ование жителей сельской местности на стро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учшение жилищных усло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54936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7 - Первоначальные услов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2276640"/>
          <a:ext cx="8136000" cy="4033800"/>
        </p:xfrm>
        <a:graphic>
          <a:graphicData uri="http://schemas.openxmlformats.org/drawingml/2006/table">
            <a:tbl>
              <a:tblPr/>
              <a:tblGrid>
                <a:gridCol w="3154320"/>
                <a:gridCol w="2098800"/>
                <a:gridCol w="1490400"/>
                <a:gridCol w="1392480"/>
              </a:tblGrid>
              <a:tr h="86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8 – Дифференцирован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2205000"/>
          <a:ext cx="7991280" cy="3844800"/>
        </p:xfrm>
        <a:graphic>
          <a:graphicData uri="http://schemas.openxmlformats.org/drawingml/2006/table">
            <a:tbl>
              <a:tblPr/>
              <a:tblGrid>
                <a:gridCol w="2320920"/>
                <a:gridCol w="1947960"/>
                <a:gridCol w="1950840"/>
                <a:gridCol w="1771560"/>
              </a:tblGrid>
              <a:tr h="1177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0000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2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9 - Аннуитет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773360"/>
          <a:ext cx="8415360" cy="4679640"/>
        </p:xfrm>
        <a:graphic>
          <a:graphicData uri="http://schemas.openxmlformats.org/drawingml/2006/table">
            <a:tbl>
              <a:tblPr/>
              <a:tblGrid>
                <a:gridCol w="2038320"/>
                <a:gridCol w="1465560"/>
                <a:gridCol w="1709640"/>
                <a:gridCol w="1482840"/>
                <a:gridCol w="1719000"/>
              </a:tblGrid>
              <a:tr h="144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37,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13,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5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27,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57,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Таблица 11- Сравнение дифференцированного и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аннуитетного платеже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2017800"/>
          <a:ext cx="8486640" cy="4332240"/>
        </p:xfrm>
        <a:graphic>
          <a:graphicData uri="http://schemas.openxmlformats.org/drawingml/2006/table">
            <a:tbl>
              <a:tblPr/>
              <a:tblGrid>
                <a:gridCol w="2303280"/>
                <a:gridCol w="1584360"/>
                <a:gridCol w="1511280"/>
                <a:gridCol w="1584360"/>
                <a:gridCol w="1503360"/>
              </a:tblGrid>
              <a:tr h="767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0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177300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Спасибо за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внимание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оказать этапы развития рынка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 Рассмотреть ипотеку как форму залога с точки зрения действующего российского законодательства, дать характеристику ипотеки и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Рассмотреть ипотечные программы, которые представлены в современное время ведущими банками Ро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Выявить проблемы и определить перспективы развития института ипоте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053000"/>
            <a:ext cx="777708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поте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от греч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ypotheka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– залог, заклад)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— представляет собой залог недвижимости для обеспечения денежного требования кредитора-залогодержателя к должнику (залогодателю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1 – Сравнение объемов ипотечных жилищных кредитов 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82600" y="2017800"/>
          <a:ext cx="7772400" cy="4235400"/>
        </p:xfrm>
        <a:graphic>
          <a:graphicData uri="http://schemas.openxmlformats.org/drawingml/2006/table">
            <a:tbl>
              <a:tblPr/>
              <a:tblGrid>
                <a:gridCol w="2589480"/>
                <a:gridCol w="2590560"/>
                <a:gridCol w="25923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роста ипотечного кредит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.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./2008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 Р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2 –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Задолженност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 ипотеке в первом полугодии 2008-2009гг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82600" y="2017800"/>
          <a:ext cx="7772040" cy="4113720"/>
        </p:xfrm>
        <a:graphic>
          <a:graphicData uri="http://schemas.openxmlformats.org/drawingml/2006/table">
            <a:tbl>
              <a:tblPr/>
              <a:tblGrid>
                <a:gridCol w="2590200"/>
                <a:gridCol w="2591280"/>
                <a:gridCol w="2590560"/>
              </a:tblGrid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ая еди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рубли Р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4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валюта 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исунок 2. Приоритетный национальный проект «Доступное и комфортное жилье – гражданам России»: индикаторы решения основных задач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61672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69966" r="0" b="0"/>
          <a:stretch/>
        </p:blipFill>
        <p:spPr>
          <a:xfrm>
            <a:off x="2195640" y="5157720"/>
            <a:ext cx="5143320" cy="12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Рисунок 3. Жилищные потребности населения (% от всех домохозяйств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3 - Примеры расчетов ипотечных платежей при использовании материнского капитала[34]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360" y="2017800"/>
          <a:ext cx="8270640" cy="4070160"/>
        </p:xfrm>
        <a:graphic>
          <a:graphicData uri="http://schemas.openxmlformats.org/drawingml/2006/table">
            <a:tbl>
              <a:tblPr/>
              <a:tblGrid>
                <a:gridCol w="406080"/>
                <a:gridCol w="1697040"/>
                <a:gridCol w="1160640"/>
                <a:gridCol w="787320"/>
                <a:gridCol w="1870200"/>
                <a:gridCol w="1173240"/>
                <a:gridCol w="1176120"/>
              </a:tblGrid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ленов семьи, в том числе несовершеннолет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кредита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,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до поступления суммы средств материнского капитала, 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ная из ПФ РФ сумма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после зачисления суммы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4 27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853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923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36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63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3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0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1 80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914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781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в том числе дети 16, 8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0 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966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779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 и 4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00 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094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615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5. Количество государственных жилищных сертификатов, выпущенных в рамках Программы в 1998-2003 гг. и планируемый выпуск сертификатов в рамках подпрограммы "Государственные жилищные сертификаты" на 2004-20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930320"/>
            <a:ext cx="7345440" cy="43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8:10:50Z</dcterms:created>
  <dc:creator>Customer</dc:creator>
  <dc:description/>
  <dc:language>en-US</dc:language>
  <cp:lastModifiedBy>Customer</cp:lastModifiedBy>
  <dcterms:modified xsi:type="dcterms:W3CDTF">2010-02-14T14:07:21Z</dcterms:modified>
  <cp:revision>18</cp:revision>
  <dc:subject/>
  <dc:title>Таблица 1 – Сравнение объемов ипотечных жилищных кредитов на 2008-2009 гг. </dc:title>
</cp:coreProperties>
</file>