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601E-D62E-4747-B571-EFC5E1D4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BE92-AD92-499C-8A3E-D6222FB8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492E-345F-4EFC-99D2-C6E728CF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91B7-1528-40BD-AD17-4AD60C47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22120-0DCE-4038-9F8F-3E698C871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074C-226C-436D-95C0-31EEE7A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965E2-74B0-4D75-8F5B-AB947C51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CF43-36C7-46B9-B789-AB82FA7B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3626-1FF7-459C-9BB6-87C94AFB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80569-C140-47F1-9317-88C597C4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E6F09-E56F-441D-84C3-16FED89D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FB35-75E7-4F79-B891-8492D9D8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9F7EA-161E-46F7-8214-04442175C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D3F5C-FBB5-4755-98BF-8B73CBD46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F3CD6-C532-4F96-9BA8-C9B2001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EA53-A27D-4F02-9312-0ADAE9D3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9874-57AF-4A1D-8466-C037E4AA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15C8-BB13-4672-AD9C-51FC1B3E2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02CB-A7B5-4925-9BE4-F66ED0413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09B6-99DD-4C96-990F-17D41EA42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E51C-CC0F-48D8-8FEA-7BE0F08A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DDB5-B544-4AF9-9EA5-CA7D31723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1447-1F50-4A12-AC55-C5A5665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FE80-1E58-4214-B6F3-875D22E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7E24-B51D-431C-A3FC-168FDDBF09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73B2-E16E-4A1A-AFFD-9B2FF84B72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АНАЛИЗ РЫНКА ИПОТЕЧНОГО КРЕДИТОВАНИЯ В УСЛОВИЯХ ФИНАНСОВОГО КРИЗИС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6. Финансирование ФЦП "Государственные жилищные сертификаты" в 1998-2003 гг. и планируемое финансирование подпрограммы "Государственные жилищные сертификаты" на 2004-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7777440" cy="439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4 – Программы ипотечного кредитования Сбербанк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19040" y="1989000"/>
          <a:ext cx="8256600" cy="4676760"/>
        </p:xfrm>
        <a:graphic>
          <a:graphicData uri="http://schemas.openxmlformats.org/drawingml/2006/table">
            <a:tbl>
              <a:tblPr/>
              <a:tblGrid>
                <a:gridCol w="1755720"/>
                <a:gridCol w="1208160"/>
                <a:gridCol w="1814400"/>
                <a:gridCol w="1360440"/>
                <a:gridCol w="21178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ая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ая сумма платеж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 кредит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 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5-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Ипотечный+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1,7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2,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Кредит на недвижимость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Молодая Семья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Р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 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25-12,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—30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75-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0" y="574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 5 – Ипотечные программы в зависимости от максимального срока предоставления кредита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55640" y="1844640"/>
          <a:ext cx="7824960" cy="4843440"/>
        </p:xfrm>
        <a:graphic>
          <a:graphicData uri="http://schemas.openxmlformats.org/drawingml/2006/table">
            <a:tbl>
              <a:tblPr/>
              <a:tblGrid>
                <a:gridCol w="3153240"/>
                <a:gridCol w="1555200"/>
                <a:gridCol w="31165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ый срок кредит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нимальные размеры процентных ставок, (% годовы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0/17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0/1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5 до 25 ле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возврата кредита – до достижения пенсионного возраста (мужчины 60 лет, женщины 55 лет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 РФ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/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5/14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0" y="568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Таблица 6 - Условия предоставления кредит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182600" y="2017800"/>
          <a:ext cx="7772400" cy="4154400"/>
        </p:xfrm>
        <a:graphic>
          <a:graphicData uri="http://schemas.openxmlformats.org/drawingml/2006/table">
            <a:tbl>
              <a:tblPr/>
              <a:tblGrid>
                <a:gridCol w="4253040"/>
                <a:gridCol w="3519360"/>
              </a:tblGrid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ные ста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1,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ования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5 до 50 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рассмотрение заявки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12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иссия за выдачу кредита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000 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ка без первоначального взнос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срочное погашение без комисс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рез 3 месяц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7 – Ипотечные программы Россельхозбанк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95280" y="2017800"/>
          <a:ext cx="8559720" cy="4755960"/>
        </p:xfrm>
        <a:graphic>
          <a:graphicData uri="http://schemas.openxmlformats.org/drawingml/2006/table">
            <a:tbl>
              <a:tblPr/>
              <a:tblGrid>
                <a:gridCol w="2149560"/>
                <a:gridCol w="1297080"/>
                <a:gridCol w="1593720"/>
                <a:gridCol w="1111320"/>
                <a:gridCol w="1052280"/>
                <a:gridCol w="13557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/ Програ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x срок, л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взнос,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 ставка % годов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потечный кредит по программе «Сельское подворь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 по программе АИЖ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ичное жиль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варти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ой 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ование жителей сельской местности на строитель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учшение жилищных услов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54936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7 - Первоначальные услов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68360" y="2276640"/>
          <a:ext cx="8136000" cy="4033800"/>
        </p:xfrm>
        <a:graphic>
          <a:graphicData uri="http://schemas.openxmlformats.org/drawingml/2006/table">
            <a:tbl>
              <a:tblPr/>
              <a:tblGrid>
                <a:gridCol w="3154320"/>
                <a:gridCol w="2098800"/>
                <a:gridCol w="1490400"/>
                <a:gridCol w="1392480"/>
              </a:tblGrid>
              <a:tr h="86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авк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8 – Дифференцирован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68360" y="2205000"/>
          <a:ext cx="7991280" cy="3844800"/>
        </p:xfrm>
        <a:graphic>
          <a:graphicData uri="http://schemas.openxmlformats.org/drawingml/2006/table">
            <a:tbl>
              <a:tblPr/>
              <a:tblGrid>
                <a:gridCol w="2320920"/>
                <a:gridCol w="1947960"/>
                <a:gridCol w="1950840"/>
                <a:gridCol w="1771560"/>
              </a:tblGrid>
              <a:tr h="1177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0000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32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555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15640" y="189000"/>
            <a:ext cx="779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Таблица 9 - Аннуитетный платеж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39640" y="1773360"/>
          <a:ext cx="8415360" cy="4679640"/>
        </p:xfrm>
        <a:graphic>
          <a:graphicData uri="http://schemas.openxmlformats.org/drawingml/2006/table">
            <a:tbl>
              <a:tblPr/>
              <a:tblGrid>
                <a:gridCol w="2038320"/>
                <a:gridCol w="1465560"/>
                <a:gridCol w="1709640"/>
                <a:gridCol w="1482840"/>
                <a:gridCol w="1719000"/>
              </a:tblGrid>
              <a:tr h="144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1922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37,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113,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45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27,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13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957,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Таблица 11- Сравнение дифференцированного и 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аннуитетного платежей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68360" y="2017800"/>
          <a:ext cx="8486640" cy="4332240"/>
        </p:xfrm>
        <a:graphic>
          <a:graphicData uri="http://schemas.openxmlformats.org/drawingml/2006/table">
            <a:tbl>
              <a:tblPr/>
              <a:tblGrid>
                <a:gridCol w="2303280"/>
                <a:gridCol w="1584360"/>
                <a:gridCol w="1511280"/>
                <a:gridCol w="1584360"/>
                <a:gridCol w="1503360"/>
              </a:tblGrid>
              <a:tr h="767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фференцированный 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нуитеты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е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8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плат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цент от сумм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ед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6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бер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 Моск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47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8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Б,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88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25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сельхо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69333,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248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6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промбан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20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0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816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2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177300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Спасибо за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 </a:t>
            </a:r>
            <a:br>
              <a:rPr sz="7200"/>
            </a:b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внимание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77929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773360"/>
            <a:ext cx="77724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Показать этапы развития рынка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 Рассмотреть ипотеку как форму залога с точки зрения действующего российского законодательства, дать характеристику ипотеки и ипотечного кредит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Рассмотреть ипотечные программы, которые представлены в современное время ведущими банками Росс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Выявить проблемы и определить перспективы развития института ипоте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3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55640" y="1053000"/>
            <a:ext cx="777708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Ипотека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(от греч.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ypotheka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 – залог, заклад) </a:t>
            </a:r>
            <a:r>
              <a:rPr b="1" lang="ru-RU" sz="3600" spc="-1" strike="noStrike">
                <a:solidFill>
                  <a:srgbClr val="333399"/>
                </a:solidFill>
                <a:latin typeface="Times New Roman"/>
              </a:rPr>
              <a:t>— представляет собой залог недвижимости для обеспечения денежного требования кредитора-залогодержателя к должнику (залогодателю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14200"/>
            <a:ext cx="79722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Таблица 1 – Сравнение объемов ипотечных жилищных кредитов 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82600" y="2017800"/>
          <a:ext cx="7772400" cy="4235400"/>
        </p:xfrm>
        <a:graphic>
          <a:graphicData uri="http://schemas.openxmlformats.org/drawingml/2006/table">
            <a:tbl>
              <a:tblPr/>
              <a:tblGrid>
                <a:gridCol w="2589480"/>
                <a:gridCol w="2590560"/>
                <a:gridCol w="25923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екс роста ипотечного кредит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.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7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./2008г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5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и, РФ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11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люта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ллары СШ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2 –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Задолженность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 ипотеке в первом полугодии 2008-2009гг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82600" y="2017800"/>
          <a:ext cx="7772040" cy="4113720"/>
        </p:xfrm>
        <a:graphic>
          <a:graphicData uri="http://schemas.openxmlformats.org/drawingml/2006/table">
            <a:tbl>
              <a:tblPr/>
              <a:tblGrid>
                <a:gridCol w="2590200"/>
                <a:gridCol w="2591280"/>
                <a:gridCol w="2590560"/>
              </a:tblGrid>
              <a:tr h="117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нежная еди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рубли Р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4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лрд, валюта СШ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6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Рисунок 2. Приоритетный национальный проект «Доступное и комфортное жилье – гражданам России»: индикаторы решения основных задач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08000" y="2060640"/>
            <a:ext cx="5616720" cy="2952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rcRect l="0" t="69966" r="0" b="0"/>
          <a:stretch/>
        </p:blipFill>
        <p:spPr>
          <a:xfrm>
            <a:off x="2195640" y="5157720"/>
            <a:ext cx="5143320" cy="127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Рисунок 3. Жилищные потребности населения (% от всех домохозяйств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72010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Таблица 3 - Примеры расчетов ипотечных платежей при использовании материнского капитала[34]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84360" y="2017800"/>
          <a:ext cx="8270640" cy="4070160"/>
        </p:xfrm>
        <a:graphic>
          <a:graphicData uri="http://schemas.openxmlformats.org/drawingml/2006/table">
            <a:tbl>
              <a:tblPr/>
              <a:tblGrid>
                <a:gridCol w="406080"/>
                <a:gridCol w="1697040"/>
                <a:gridCol w="1160640"/>
                <a:gridCol w="787320"/>
                <a:gridCol w="1870200"/>
                <a:gridCol w="1173240"/>
                <a:gridCol w="1176120"/>
              </a:tblGrid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членов семьи, в том числе несовершеннолетни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мма кредита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ок кредита, ле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до поступления суммы средств материнского капитала, руб.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ная из ПФ РФ сумма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жемесячный платеж после зачисления суммы средств материнского капитала, руб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3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4 273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853,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923,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4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365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663,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3,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0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1 80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914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781,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 в том числе дети 16, 8 и 2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 6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966,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779,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 в том числе дети 1 и 4 л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000 00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94,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9 731,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615,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Рисунок 5. Количество государственных жилищных сертификатов, выпущенных в рамках Программы в 1998-2003 гг. и планируемый выпуск сертификатов в рамках подпрограммы "Государственные жилищные сертификаты" на 2004-2010 гг.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42920" y="1930320"/>
            <a:ext cx="7345440" cy="437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10:50Z</dcterms:created>
  <dc:creator>Customer</dc:creator>
  <dc:description/>
  <dc:language>en-US</dc:language>
  <cp:lastModifiedBy>Customer</cp:lastModifiedBy>
  <dcterms:modified xsi:type="dcterms:W3CDTF">2010-02-14T14:07:21Z</dcterms:modified>
  <cp:revision>18</cp:revision>
  <dc:subject/>
  <dc:title>Таблица 1 – Сравнение объемов ипотечных жилищных кредитов на 2008-2009 гг. </dc:title>
</cp:coreProperties>
</file>