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35EC-019C-41B0-AAE8-A6E1AD95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69E-B887-47FC-9181-016F42E5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854D-F485-4928-91AF-BEA439B2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668C-ED72-4CAC-A7D6-11588545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12B6-8106-4386-B4A4-83B6B29B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7809-D2D6-4AEA-BF5F-F101E27A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BB98-0322-4E5D-A501-4EBEACA0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4C50-DE1A-4A00-BF96-9F9E3690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CDF0-AC66-494B-ACA6-92ECC3FB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9131-1853-422E-9995-4AA62B4D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769F-0DEB-44E8-B6D4-6CAA3B4A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50EC-00CC-4960-B682-765DAE12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F4BB-C436-41D2-966E-35CF86C9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1BE4-854F-4564-995F-7B5FBD20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CCBC-3D83-4D8D-A183-F5B9AFE5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31F6-DF98-47DC-8981-93988B51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4C36-38D4-4137-B853-CD762F0C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5794-6845-4AC9-BD0E-DAF4CA96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4557-FFF9-418F-B304-EE1F28DC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CF36-42B1-4316-B12D-F6F6DD34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92FC-EE3D-4E9D-B3D3-A91D61B0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1D29-14C0-4F50-AD78-1602425F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99B9-A8EF-4E1D-946E-751E9C34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EC80-017F-4B4F-8D97-9F1AF578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1B1B-CF8F-4430-B8B9-E17CE1F428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7903-9B6A-4D9A-B7ED-BC435FAF54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8532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АНАЛИЗ РЫНКА ИПОТЕЧНОГО КРЕДИТОВАНИЯ В УСЛОВИЯХ ФИНАНСОВОГО КРИЗИ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исунок 6. Финансирование ФЦП "Государственные жилищные сертификаты" в 1998-2003 гг. и планируемое финансирование подпрограммы "Государственные жилищные сертификаты" на 2004-10 гг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77744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4 – Программы ипотечного кредитования Сбербан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19040" y="1989000"/>
          <a:ext cx="8256600" cy="4676760"/>
        </p:xfrm>
        <a:graphic>
          <a:graphicData uri="http://schemas.openxmlformats.org/drawingml/2006/table">
            <a:tbl>
              <a:tblPr/>
              <a:tblGrid>
                <a:gridCol w="1755720"/>
                <a:gridCol w="1208160"/>
                <a:gridCol w="1814400"/>
                <a:gridCol w="1360440"/>
                <a:gridCol w="211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чная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ая сумма плате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потечный кредит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-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потечный+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-11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5-12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едит на недвижимос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олодая Семь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5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0" y="574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 5 – Ипотечные программы в зависимости от максимального срока предоставления кредит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1844640"/>
          <a:ext cx="7824960" cy="4843440"/>
        </p:xfrm>
        <a:graphic>
          <a:graphicData uri="http://schemas.openxmlformats.org/drawingml/2006/table">
            <a:tbl>
              <a:tblPr/>
              <a:tblGrid>
                <a:gridCol w="3153240"/>
                <a:gridCol w="1555200"/>
                <a:gridCol w="3116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й срок кредит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ые размеры процентных ставок, (% годовы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5 л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возврата кредита – до достижения пенсионного возраста (мужчины 60 лет, женщины 55 ле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 Р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/1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/1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 до 25 л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возврата кредита – до достижения пенсионного возраста (мужчины 60 лет, женщины 55 лет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 Р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/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5/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0" y="56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Таблица 6 - Условия предоставления кредит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82600" y="2017800"/>
          <a:ext cx="7772400" cy="4154400"/>
        </p:xfrm>
        <a:graphic>
          <a:graphicData uri="http://schemas.openxmlformats.org/drawingml/2006/table">
            <a:tbl>
              <a:tblPr/>
              <a:tblGrid>
                <a:gridCol w="4253040"/>
                <a:gridCol w="3519360"/>
              </a:tblGrid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ные став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1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овани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5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за рассмотрение заяв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2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за выдачу креди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0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ка без первоначального взно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рочное погашение без коми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3 меся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блица 7 – Ипотечные программы Россельхозбан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95280" y="2017800"/>
          <a:ext cx="8559720" cy="4755960"/>
        </p:xfrm>
        <a:graphic>
          <a:graphicData uri="http://schemas.openxmlformats.org/drawingml/2006/table">
            <a:tbl>
              <a:tblPr/>
              <a:tblGrid>
                <a:gridCol w="2149560"/>
                <a:gridCol w="1297080"/>
                <a:gridCol w="1593720"/>
                <a:gridCol w="1111320"/>
                <a:gridCol w="1052280"/>
                <a:gridCol w="13557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/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срок,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 взнос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 ставка % год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чный кредит по программе «Сельское подворь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ое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 по программе АИЖ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ое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ование жителей сельской местности на строи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учшение жилищных усло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54936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7 - Первоначальные услов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2276640"/>
          <a:ext cx="8136000" cy="4033800"/>
        </p:xfrm>
        <a:graphic>
          <a:graphicData uri="http://schemas.openxmlformats.org/drawingml/2006/table">
            <a:tbl>
              <a:tblPr/>
              <a:tblGrid>
                <a:gridCol w="3154320"/>
                <a:gridCol w="2098800"/>
                <a:gridCol w="1490400"/>
                <a:gridCol w="1392480"/>
              </a:tblGrid>
              <a:tr h="86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8 – Дифференцированный плате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2205000"/>
          <a:ext cx="7991280" cy="3844800"/>
        </p:xfrm>
        <a:graphic>
          <a:graphicData uri="http://schemas.openxmlformats.org/drawingml/2006/table">
            <a:tbl>
              <a:tblPr/>
              <a:tblGrid>
                <a:gridCol w="2320920"/>
                <a:gridCol w="1947960"/>
                <a:gridCol w="1950840"/>
                <a:gridCol w="1771560"/>
              </a:tblGrid>
              <a:tr h="1177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0000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32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5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5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блица 9 - Аннуитетный плате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9640" y="1773360"/>
          <a:ext cx="8415360" cy="4679640"/>
        </p:xfrm>
        <a:graphic>
          <a:graphicData uri="http://schemas.openxmlformats.org/drawingml/2006/table">
            <a:tbl>
              <a:tblPr/>
              <a:tblGrid>
                <a:gridCol w="2038320"/>
                <a:gridCol w="1465560"/>
                <a:gridCol w="1709640"/>
                <a:gridCol w="1482840"/>
                <a:gridCol w="1719000"/>
              </a:tblGrid>
              <a:tr h="144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92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92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37,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113,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5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27,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3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3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57,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Таблица 11- Сравнение дифференцированного и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аннуитетного платеже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2017800"/>
          <a:ext cx="8486640" cy="4332240"/>
        </p:xfrm>
        <a:graphic>
          <a:graphicData uri="http://schemas.openxmlformats.org/drawingml/2006/table">
            <a:tbl>
              <a:tblPr/>
              <a:tblGrid>
                <a:gridCol w="2303280"/>
                <a:gridCol w="1584360"/>
                <a:gridCol w="1511280"/>
                <a:gridCol w="1584360"/>
                <a:gridCol w="1503360"/>
              </a:tblGrid>
              <a:tr h="7675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рованный плат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уитет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20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177300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Спасибо за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внимание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Показать этапы развития рынка ипотечного кредит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 Рассмотреть ипотеку как форму залога с точки зрения действующего российского законодательства, дать характеристику ипотеки и ипотечного кредит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Рассмотреть ипотечные программы, которые представлены в современное время ведущими банками Ро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Выявить проблемы и определить перспективы развития института ипоте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1053000"/>
            <a:ext cx="777708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Ипотек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(от греч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ypotheka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– залог, заклад)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— представляет собой залог недвижимости для обеспечения денежного требования кредитора-залогодержателя к должнику (залогодателю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1 – Сравнение объемов ипотечных жилищных кредитов 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82600" y="2017800"/>
          <a:ext cx="7772400" cy="4235400"/>
        </p:xfrm>
        <a:graphic>
          <a:graphicData uri="http://schemas.openxmlformats.org/drawingml/2006/table">
            <a:tbl>
              <a:tblPr/>
              <a:tblGrid>
                <a:gridCol w="2589480"/>
                <a:gridCol w="2590560"/>
                <a:gridCol w="25923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 роста ипотечного кредит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.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./2008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 Р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2 –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Задолженност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о ипотеке в первом полугодии 2008-2009гг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82600" y="2017800"/>
          <a:ext cx="7772040" cy="4113720"/>
        </p:xfrm>
        <a:graphic>
          <a:graphicData uri="http://schemas.openxmlformats.org/drawingml/2006/table">
            <a:tbl>
              <a:tblPr/>
              <a:tblGrid>
                <a:gridCol w="2590200"/>
                <a:gridCol w="2591280"/>
                <a:gridCol w="2590560"/>
              </a:tblGrid>
              <a:tr h="11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ая еди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, рубли Р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4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, валюта С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исунок 2. Приоритетный национальный проект «Доступное и комфортное жилье – гражданам России»: индикаторы решения основных задач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616720" cy="2952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0" t="69966" r="0" b="0"/>
          <a:stretch/>
        </p:blipFill>
        <p:spPr>
          <a:xfrm>
            <a:off x="2195640" y="5157720"/>
            <a:ext cx="5143320" cy="12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Рисунок 3. Жилищные потребности населения (% от всех домохозяйств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20108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3 - Примеры расчетов ипотечных платежей при использовании материнского капитала[34]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4360" y="2017800"/>
          <a:ext cx="8270640" cy="4070160"/>
        </p:xfrm>
        <a:graphic>
          <a:graphicData uri="http://schemas.openxmlformats.org/drawingml/2006/table">
            <a:tbl>
              <a:tblPr/>
              <a:tblGrid>
                <a:gridCol w="406080"/>
                <a:gridCol w="1697040"/>
                <a:gridCol w="1160640"/>
                <a:gridCol w="787320"/>
                <a:gridCol w="1870200"/>
                <a:gridCol w="1173240"/>
                <a:gridCol w="1176120"/>
              </a:tblGrid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ленов семьи, в том числе несовершеннолет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кредита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,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й платеж до поступления суммы средств материнского капитала, руб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ная из ПФ РФ сумма средств материнского капитала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й платеж после зачисления суммы средств материнского капитала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4 и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4 273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853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923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4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36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63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3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10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1 80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914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781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 в том числе дети 16, 8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0 6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966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779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1 и 4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00 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094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615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исунок 5. Количество государственных жилищных сертификатов, выпущенных в рамках Программы в 1998-2003 гг. и планируемый выпуск сертификатов в рамках подпрограммы "Государственные жилищные сертификаты" на 2004-2010 гг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2920" y="1930320"/>
            <a:ext cx="7345440" cy="43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8:10:50Z</dcterms:created>
  <dc:creator>Customer</dc:creator>
  <dc:description/>
  <dc:language>en-US</dc:language>
  <cp:lastModifiedBy>Customer</cp:lastModifiedBy>
  <dcterms:modified xsi:type="dcterms:W3CDTF">2010-02-14T14:07:21Z</dcterms:modified>
  <cp:revision>18</cp:revision>
  <dc:subject/>
  <dc:title>Таблица 1 – Сравнение объемов ипотечных жилищных кредитов на 2008-2009 гг. </dc:title>
</cp:coreProperties>
</file>