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7714-ABA7-4A54-AECB-7CBFB0A55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4C4D-F55D-474A-9508-9A303AD30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8C20-92C1-4CCC-9539-F40A5CD49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7695-3682-4070-987F-1E1508515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EAB05-FDA7-406E-A18A-2C2C3C869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759A9-8D93-4C83-89CA-9F9DD122F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0B7BD-9EFE-486E-BDE2-69016D902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C927A-09DC-4302-99EC-4BE033F5C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F9ED0-271A-4F1C-ADFD-C87BB4DFB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64B60-A5F0-4B13-B087-4B750EAF1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CE885-2415-4509-962E-A1F218AA6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87E0-5D5A-4C16-AAA0-AFE58EA2F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EB245-F936-4296-853D-B2B1F57B9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DCC7E-50F8-4112-B205-F54EBC3FC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8B90F-7411-4B61-A8E7-C36EF09B6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DCD0A-15D5-4623-A9BC-7AF864531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B7A65-2A28-4E9F-9E58-03CCDB394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E51E-3418-4DF0-A8A3-5F0D8B63E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F574-3D9D-4472-808F-883CAFABD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555A-99C9-41FD-8016-2666B8052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E914-AC8F-459C-A7E2-CEB260D35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D3A7-F802-4732-AE5E-F7C6D1ACE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F0E2-A94F-40BF-88F4-A99D7099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5084-153A-4327-A444-733467CE9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E79F8-3481-41BC-AF4D-E235ED99D02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C9B2C-BD9A-4FE5-8B20-929CBC34EC7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1280" y="907920"/>
            <a:ext cx="8532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АНАЛИЗ РЫНКА ИПОТЕЧНОГО КРЕДИТОВАНИЯ В УСЛОВИЯХ ФИНАНСОВОГО КРИЗИС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Рисунок 6. Финансирование ФЦП "Государственные жилищные сертификаты" в 1998-2003 гг. и планируемое финансирование подпрограммы "Государственные жилищные сертификаты" на 2004-10 гг.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39640" y="1989000"/>
            <a:ext cx="7777440" cy="439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Таблица 4 – Программы ипотечного кредитования Сбербанка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19040" y="1989000"/>
          <a:ext cx="8256600" cy="4676760"/>
        </p:xfrm>
        <a:graphic>
          <a:graphicData uri="http://schemas.openxmlformats.org/drawingml/2006/table">
            <a:tbl>
              <a:tblPr/>
              <a:tblGrid>
                <a:gridCol w="1755720"/>
                <a:gridCol w="1208160"/>
                <a:gridCol w="1814400"/>
                <a:gridCol w="1360440"/>
                <a:gridCol w="21178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потечная програм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ю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мальная сумма платеж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 креди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Ипотечный кредит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ли,Р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15 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—30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5-1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лары СШ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—30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-12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Ипотечный+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ли,Р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—30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25-11,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лары СШ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—30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75-12,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Кредит на недвижимость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ли,Р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—30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5-12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лары СШ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—30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-1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Молодая Семья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ли,Р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—30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25-12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лары СШ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—30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75-1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>
            <a:off x="0" y="574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Таблица  5 – Ипотечные программы в зависимости от максимального срока предоставления кредита.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55640" y="1844640"/>
          <a:ext cx="7824960" cy="4843440"/>
        </p:xfrm>
        <a:graphic>
          <a:graphicData uri="http://schemas.openxmlformats.org/drawingml/2006/table">
            <a:tbl>
              <a:tblPr/>
              <a:tblGrid>
                <a:gridCol w="3153240"/>
                <a:gridCol w="1555200"/>
                <a:gridCol w="311652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имальный срок кредито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ют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едит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мальные размеры процентных ставок, (% годовых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15 ле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 возврата кредита – до достижения пенсионного возраста (мужчины 60 лет, женщины 55 лет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ли Р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0/17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лары СШ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0/13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15 до 25 ле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 возврата кредита – до достижения пенсионного возраста (мужчины 60 лет, женщины 55 лет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ли Р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0/18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лары СШ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5/14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"/>
          <p:cNvSpPr/>
          <p:nvPr/>
        </p:nvSpPr>
        <p:spPr>
          <a:xfrm>
            <a:off x="0" y="56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Таблица 6 - Условия предоставления кредит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182600" y="2017800"/>
          <a:ext cx="7772400" cy="4154400"/>
        </p:xfrm>
        <a:graphic>
          <a:graphicData uri="http://schemas.openxmlformats.org/drawingml/2006/table">
            <a:tbl>
              <a:tblPr/>
              <a:tblGrid>
                <a:gridCol w="4253040"/>
                <a:gridCol w="3519360"/>
              </a:tblGrid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ные ставки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11,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 кредитования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5 до 50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иссия за рассмотрение заявки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1200 руб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иссия за выдачу кредит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000 руб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потека без первоначального взно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рочное погашение без комисс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ез 3 месяц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Таблица 7 – Ипотечные программы Россельхозбанк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395280" y="2017800"/>
          <a:ext cx="8559720" cy="4755960"/>
        </p:xfrm>
        <a:graphic>
          <a:graphicData uri="http://schemas.openxmlformats.org/drawingml/2006/table">
            <a:tbl>
              <a:tblPr/>
              <a:tblGrid>
                <a:gridCol w="2149560"/>
                <a:gridCol w="1297080"/>
                <a:gridCol w="1593720"/>
                <a:gridCol w="1111320"/>
                <a:gridCol w="1052280"/>
                <a:gridCol w="135576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нк / Програм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ю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 срок,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 взнос,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 ставка % годов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потечный кредит по программе «Сельское подворье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ичное жиль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рти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лой д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едит по программе АИЖ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ичное жиль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рти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лой д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едитование жителей сельской местности на строитель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лучшение жилищных услов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549360"/>
            <a:ext cx="77929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Таблица 7 - Первоначальные условия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68360" y="2276640"/>
          <a:ext cx="8136000" cy="4033800"/>
        </p:xfrm>
        <a:graphic>
          <a:graphicData uri="http://schemas.openxmlformats.org/drawingml/2006/table">
            <a:tbl>
              <a:tblPr/>
              <a:tblGrid>
                <a:gridCol w="3154320"/>
                <a:gridCol w="2098800"/>
                <a:gridCol w="1490400"/>
                <a:gridCol w="1392480"/>
              </a:tblGrid>
              <a:tr h="865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вк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бер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зпром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Б, 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нк Москв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ельхоз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Таблица 8 – Дифференцированный платеж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68360" y="2205000"/>
          <a:ext cx="7991280" cy="3844800"/>
        </p:xfrm>
        <a:graphic>
          <a:graphicData uri="http://schemas.openxmlformats.org/drawingml/2006/table">
            <a:tbl>
              <a:tblPr/>
              <a:tblGrid>
                <a:gridCol w="2320920"/>
                <a:gridCol w="1947960"/>
                <a:gridCol w="1950840"/>
                <a:gridCol w="1771560"/>
              </a:tblGrid>
              <a:tr h="1177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 перепла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 от суммы креди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бер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47333,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47333,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5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зпром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20000,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32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Б, 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88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88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0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нк Москв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555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555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ельхоз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69333,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69333,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0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7792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Таблица 9 - Аннуитетный платеж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539640" y="1773360"/>
          <a:ext cx="8415360" cy="4679640"/>
        </p:xfrm>
        <a:graphic>
          <a:graphicData uri="http://schemas.openxmlformats.org/drawingml/2006/table">
            <a:tbl>
              <a:tblPr/>
              <a:tblGrid>
                <a:gridCol w="2038320"/>
                <a:gridCol w="1465560"/>
                <a:gridCol w="1709640"/>
                <a:gridCol w="1482840"/>
                <a:gridCol w="1719000"/>
              </a:tblGrid>
              <a:tr h="1445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нуит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пла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192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 от сумм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192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еди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бер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237,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848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848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2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зпром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113,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816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816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2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Б, 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457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256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248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0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2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нк Москв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427,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136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136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2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ельхоз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957,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248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256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6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Таблица 11- Сравнение дифференцированного и 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аннуитетного платежей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68360" y="2017800"/>
          <a:ext cx="8486640" cy="4332240"/>
        </p:xfrm>
        <a:graphic>
          <a:graphicData uri="http://schemas.openxmlformats.org/drawingml/2006/table">
            <a:tbl>
              <a:tblPr/>
              <a:tblGrid>
                <a:gridCol w="2303280"/>
                <a:gridCol w="1584360"/>
                <a:gridCol w="1511280"/>
                <a:gridCol w="1584360"/>
                <a:gridCol w="1503360"/>
              </a:tblGrid>
              <a:tr h="76752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фференцированный плате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нуитеты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те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8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пла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 от сумм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еди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пла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 от сумм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еди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8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бер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47333,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5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848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2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нк Москв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47333,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5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848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2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Б, 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88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0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256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0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ельхо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69333,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0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248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6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зпром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20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816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2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720" y="1773000"/>
            <a:ext cx="77724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Спасибо за</a:t>
            </a:r>
            <a:br>
              <a:rPr sz="7200"/>
            </a:b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 </a:t>
            </a:r>
            <a:br>
              <a:rPr sz="7200"/>
            </a:b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внимание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15640" y="333000"/>
            <a:ext cx="77929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Задачи: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1773360"/>
            <a:ext cx="77724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Показать этапы развития рынка ипотечного кредитова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 Рассмотреть ипотеку как форму залога с точки зрения действующего российского законодательства, дать характеристику ипотеки и ипотечного кредитова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Рассмотреть ипотечные программы, которые представлены в современное время ведущими банками Росси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Выявить проблемы и определить перспективы развития института ипотек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3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3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55640" y="1053000"/>
            <a:ext cx="7777080" cy="46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Ипотека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(от греч.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hypotheka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– залог, заклад) </a:t>
            </a:r>
            <a:r>
              <a:rPr b="1" lang="ru-RU" sz="3600" spc="-1" strike="noStrike">
                <a:solidFill>
                  <a:srgbClr val="333399"/>
                </a:solidFill>
                <a:latin typeface="Times New Roman"/>
              </a:rPr>
              <a:t>— представляет собой залог недвижимости для обеспечения денежного требования кредитора-залогодержателя к должнику (залогодателю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280" y="214200"/>
            <a:ext cx="79722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Таблица 1 – Сравнение объемов ипотечных жилищных кредитов </a:t>
            </a: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182600" y="2017800"/>
          <a:ext cx="7772400" cy="4235400"/>
        </p:xfrm>
        <a:graphic>
          <a:graphicData uri="http://schemas.openxmlformats.org/drawingml/2006/table">
            <a:tbl>
              <a:tblPr/>
              <a:tblGrid>
                <a:gridCol w="2589480"/>
                <a:gridCol w="2590560"/>
                <a:gridCol w="259236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екс роста ипотечного кредитова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г.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г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г./2008г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ли, Р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юта,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лары СШ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Таблица 2 –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Задолженность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по ипотеке в первом полугодии 2008-2009гг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182600" y="2017800"/>
          <a:ext cx="7772040" cy="4113720"/>
        </p:xfrm>
        <a:graphic>
          <a:graphicData uri="http://schemas.openxmlformats.org/drawingml/2006/table">
            <a:tbl>
              <a:tblPr/>
              <a:tblGrid>
                <a:gridCol w="2590200"/>
                <a:gridCol w="2591280"/>
                <a:gridCol w="2590560"/>
              </a:tblGrid>
              <a:tr h="117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ежная единиц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, рубли Р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84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, валюта СШ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6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Рисунок 2. Приоритетный национальный проект «Доступное и комфортное жилье – гражданам России»: индикаторы решения основных задач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908000" y="2060640"/>
            <a:ext cx="5616720" cy="29527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rcRect l="0" t="69966" r="0" b="0"/>
          <a:stretch/>
        </p:blipFill>
        <p:spPr>
          <a:xfrm>
            <a:off x="2195640" y="5157720"/>
            <a:ext cx="5143320" cy="127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Рисунок 3. Жилищные потребности населения (% от всех домохозяйств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00000" y="2133720"/>
            <a:ext cx="7201080" cy="42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Таблица 3 - Примеры расчетов ипотечных платежей при использовании материнского капитала[34]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84360" y="2017800"/>
          <a:ext cx="8270640" cy="4070160"/>
        </p:xfrm>
        <a:graphic>
          <a:graphicData uri="http://schemas.openxmlformats.org/drawingml/2006/table">
            <a:tbl>
              <a:tblPr/>
              <a:tblGrid>
                <a:gridCol w="406080"/>
                <a:gridCol w="1697040"/>
                <a:gridCol w="1160640"/>
                <a:gridCol w="787320"/>
                <a:gridCol w="1870200"/>
                <a:gridCol w="1173240"/>
                <a:gridCol w="1176120"/>
              </a:tblGrid>
              <a:tr h="116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членов семьи, в том числе несовершеннолет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 кредита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.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 кредита,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жемесячный платеж до поступления суммы средств материнского капитала, руб.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енная из ПФ РФ сумма средств материнского капитала,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жемесячный платеж после зачисления суммы средств материнского капитала,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 в том числе дети 4 и 3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4 273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 853,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9 731,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923,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 в том числе дети 4 и 2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 365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663,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9 731,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3,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 в том числе дети 10 и 2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1 809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914,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9 731,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781,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 в том числе дети 16, 8 и 2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0 6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966,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9 731,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779,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 в том числе дети 1 и 4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000 0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 094,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9 731,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 615,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Рисунок 5. Количество государственных жилищных сертификатов, выпущенных в рамках Программы в 1998-2003 гг. и планируемый выпуск сертификатов в рамках подпрограммы "Государственные жилищные сертификаты" на 2004-2010 гг.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042920" y="1930320"/>
            <a:ext cx="7345440" cy="437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30T18:10:50Z</dcterms:created>
  <dc:creator>Customer</dc:creator>
  <dc:description/>
  <dc:language>en-US</dc:language>
  <cp:lastModifiedBy>Customer</cp:lastModifiedBy>
  <dcterms:modified xsi:type="dcterms:W3CDTF">2010-02-14T14:07:21Z</dcterms:modified>
  <cp:revision>18</cp:revision>
  <dc:subject/>
  <dc:title>Таблица 1 – Сравнение объемов ипотечных жилищных кредитов на 2008-2009 гг. </dc:title>
</cp:coreProperties>
</file>